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365E-6071-482A-AD3F-9ACB5CD7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E90-7115-411A-8FB7-822EC079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507-9235-4DE8-B36C-5CAAF0F1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CF02-AE5F-47E4-B450-53974D5C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52A4-14F4-4A9E-9364-F4657743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607-37CC-4681-A8C2-5D04518A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E97-E786-4A76-BFBF-C8FC15C4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2C7-C05F-4BCE-A693-59641E4B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D06-54BC-4DB3-8E9C-A378FFDE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C42-BCD0-4118-8A39-88A1308D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7AB9-BC48-461C-96CA-C339150D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521-84ED-4A3C-9361-37ED3265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FC90-0D51-4D69-BDFC-020316F20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Arial"/>
              </a:rPr>
              <a:t>AGUAC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images17.jpg"/>
          <p:cNvPicPr/>
          <p:nvPr/>
        </p:nvPicPr>
        <p:blipFill>
          <a:blip r:embed="rId1"/>
          <a:stretch/>
        </p:blipFill>
        <p:spPr>
          <a:xfrm>
            <a:off x="3635280" y="3357720"/>
            <a:ext cx="20890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UAC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fruta originaria de las Amér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bulosa para la piel y la salu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ree que existen más de 500 varieda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BENEFICIOS NUTRICION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Es útil en la lucha contra el colesterol y la prevención de la arterioscler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ula la formación de colágeno. Por esto ayuda a la piel y a combatir el envejecimient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yuda con problemas de la piel como eczema, dermatitis y grano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s propiedades suavizantes provenientes de la semilla del aguacate (el aceite de aguacate) son usadas en la industria de la cosmética para elaborar productos para la piel y el cabell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or su contenido en vitamina D ayuda a la absorción del calcio y fósfor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trasa el proceso de envejecimiento por su contenido de vitamina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3:06:50Z</dcterms:created>
  <dc:creator>Walter Villalobos</dc:creator>
  <dc:description/>
  <dc:language>en-US</dc:language>
  <cp:lastModifiedBy>Walter Villalobos</cp:lastModifiedBy>
  <dcterms:modified xsi:type="dcterms:W3CDTF">2009-09-04T03:13:19Z</dcterms:modified>
  <cp:revision>7</cp:revision>
  <dc:subject/>
  <dc:title>Slide 1</dc:title>
</cp:coreProperties>
</file>