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1D2-FAB4-408B-A8AB-A4826668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466-4F96-4200-8298-42C7CF3A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9AA-1D92-4EA2-B8D5-68A8CC29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517-FC71-48D8-B481-9E58AC2E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585-F7C5-49C3-AFE6-43859E0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3B7-E02E-4BE4-855A-4BFFAA7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A1-3FAF-4CA2-A547-E2C8169B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0C0-7AC2-41BA-9283-75F503C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B21-848E-4A71-9FA4-08B7AD1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C9F2-B913-4BBE-BB85-ACFBFA8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F70-0939-4618-8AE9-9C6F916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91B-2A11-41EA-A361-DD0CF73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EF52-E163-47CA-A171-B357D894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mages17.jpg"/>
          <p:cNvPicPr/>
          <p:nvPr/>
        </p:nvPicPr>
        <p:blipFill>
          <a:blip r:embed="rId1"/>
          <a:stretch/>
        </p:blipFill>
        <p:spPr>
          <a:xfrm>
            <a:off x="3635280" y="3357720"/>
            <a:ext cx="2089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fruta originaria de las Amé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ulosa para la piel y la salu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e que existen más de 500 va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ENEFICIOS NUTRIC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Es útil en la lucha contra el colesterol y la prevención de la arterioscle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ula la formación de colágeno. Por esto ayuda a la piel y a combatir el envejecimient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yuda con problemas de la piel como eczema, dermatitis y grano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s propiedades suavizantes provenientes de la semilla del aguacate (el aceite de aguacate) son usadas en la industria de la cosmética para elaborar productos para la piel y el cabell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r su contenido en vitamina D ayuda a la absorción del calcio y fósfo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trasa el proceso de envejecimiento por su contenido de vitamin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06:50Z</dcterms:created>
  <dc:creator>Walter Villalobos</dc:creator>
  <dc:description/>
  <dc:language>en-US</dc:language>
  <cp:lastModifiedBy>Walter Villalobos</cp:lastModifiedBy>
  <dcterms:modified xsi:type="dcterms:W3CDTF">2009-09-04T03:13:19Z</dcterms:modified>
  <cp:revision>7</cp:revision>
  <dc:subject/>
  <dc:title>Slide 1</dc:title>
</cp:coreProperties>
</file>