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97B-2971-4CB1-A9BA-44A5D872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BEF-C57D-4F30-B6CD-7FFAAA5D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3B7-FCAF-4B48-88B9-6FED4761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D38-F1CA-4B77-A1C0-281954B0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304-E9A6-479C-AAB6-1AE17B03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998-711A-45C5-83C8-832ADAEB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887-C31F-4CDB-8573-666A4346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A83-03DB-486E-A19D-5696ED63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135-302C-424C-B7E7-B46A892E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8C2-36FE-4879-A3DC-2544BFA9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C37-D331-467E-84BD-B5E07382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D3F-33B1-452A-A73B-F9DDF76A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3F09-F927-4F1C-AC79-13FAAF020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Arial"/>
              </a:rPr>
              <a:t>AGUAC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mages17.jpg"/>
          <p:cNvPicPr/>
          <p:nvPr/>
        </p:nvPicPr>
        <p:blipFill>
          <a:blip r:embed="rId1"/>
          <a:stretch/>
        </p:blipFill>
        <p:spPr>
          <a:xfrm>
            <a:off x="3635280" y="3357720"/>
            <a:ext cx="2089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UA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fruta originaria de las Amér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bulosa para la piel y la salu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ree que existen más de 500 varie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BENEFICIOS NUTRICION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Es útil en la lucha contra el colesterol y la prevención de la arterioscler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ula la formación de colágeno. Por esto ayuda a la piel y a combatir el envejecimient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yuda con problemas de la piel como eczema, dermatitis y grano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s propiedades suavizantes provenientes de la semilla del aguacate (el aceite de aguacate) son usadas en la industria de la cosmética para elaborar productos para la piel y el cabell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or su contenido en vitamina D ayuda a la absorción del calcio y fósfor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trasa el proceso de envejecimiento por su contenido de vitamina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3:06:50Z</dcterms:created>
  <dc:creator>Walter Villalobos</dc:creator>
  <dc:description/>
  <dc:language>en-US</dc:language>
  <cp:lastModifiedBy>Walter Villalobos</cp:lastModifiedBy>
  <dcterms:modified xsi:type="dcterms:W3CDTF">2009-09-04T03:13:19Z</dcterms:modified>
  <cp:revision>7</cp:revision>
  <dc:subject/>
  <dc:title>Slide 1</dc:title>
</cp:coreProperties>
</file>