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B3E-F9C9-4832-A3F1-0BD19C8B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235-CBD7-4084-9AFD-E42E6B52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B54-3107-428F-85F9-2E7D8B66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8D7-BD95-425D-9067-341E185E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EC3-1CA9-4D76-9B86-0F05925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A3C-9273-45CA-B221-751DEE22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D44-1C78-4E28-94AB-88DB364F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059-D596-49E9-BDA9-848441C0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420-E777-4C45-9BD8-3E7480AC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73A-2A5A-46EE-A282-2706AAF1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88C-B4C3-45A5-A468-08B4BACA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CF9-8D23-44CF-A251-48BBC3B0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4ECF-82B0-44ED-BD6D-E194664EC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ial"/>
              </a:rPr>
              <a:t>AGUAC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images17.jpg"/>
          <p:cNvPicPr/>
          <p:nvPr/>
        </p:nvPicPr>
        <p:blipFill>
          <a:blip r:embed="rId1"/>
          <a:stretch/>
        </p:blipFill>
        <p:spPr>
          <a:xfrm>
            <a:off x="3635280" y="3357720"/>
            <a:ext cx="2089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UAC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fruta originaria de las Amé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bulosa para la piel y la salu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ee que existen más de 500 varieda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BENEFICIOS NUTRICION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Es útil en la lucha contra el colesterol y la prevención de la arterioscle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ula la formación de colágeno. Por esto ayuda a la piel y a combatir el envejecimient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yuda con problemas de la piel como eczema, dermatitis y grano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s propiedades suavizantes provenientes de la semilla del aguacate (el aceite de aguacate) son usadas en la industria de la cosmética para elaborar productos para la piel y el cabell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or su contenido en vitamina D ayuda a la absorción del calcio y fósforo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trasa el proceso de envejecimiento por su contenido de vitamin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3:06:50Z</dcterms:created>
  <dc:creator>Walter Villalobos</dc:creator>
  <dc:description/>
  <dc:language>en-US</dc:language>
  <cp:lastModifiedBy>Walter Villalobos</cp:lastModifiedBy>
  <dcterms:modified xsi:type="dcterms:W3CDTF">2009-09-04T03:13:19Z</dcterms:modified>
  <cp:revision>7</cp:revision>
  <dc:subject/>
  <dc:title>Slide 1</dc:title>
</cp:coreProperties>
</file>