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B5E1-BE40-44D3-8BA6-26CF5A04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A55-AECB-4B26-85CB-E4E3E49A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BDF3-8D2F-4FC7-A3E5-186A31BA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93B-68CF-464A-B78C-FD990F04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C11F-CB97-4CDA-BF1A-63FBE558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AAA-4625-4CD3-83F3-85F30DEC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5AF-AE04-40C8-B447-FBE478D1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C34-3F34-4FDA-A053-C3E8420C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AFE0-767F-4F3F-8153-4B1A213A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DAF3-8A16-4AA0-8B5D-32292D4E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A34-881D-4A4F-BCD1-55B3D884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EE4C-A254-4F07-A1B7-EA902760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ABDE-D907-4874-AF22-407F5C6D3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upload.wikimedia.org/wikipedia/commons/a/a3/Carambola_cut.jpg&amp;imgrefurl=http://commons.wikimedia.org/wiki/File:Carambola_cut.jpg&amp;usg=__UHcJsNyY6akGifK3iVcId299vnM=&amp;h=700&amp;w=1450&amp;sz=449&amp;hl=es&amp;start=18&amp;tbnid=2Bcm_pltUCo2rM:&amp;tbnh=72&amp;tbnw=150&amp;prev=/images%3Fq%3DCARAMBOLA%26gbv%3D2%26hl%3Des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i.pbase.com/u20/alexuchoa/upload/36629289.carambola2.jpg&amp;imgrefurl=http://www.pbase.com/alexuchoa/image/36629289&amp;usg=__z0orL4wHh7vrNSyL-htHrZo77Kg=&amp;h=425&amp;w=640&amp;sz=148&amp;hl=es&amp;start=2&amp;tbnid=8QMTYKcZXTsZQM:&amp;tbnh=91&amp;tbnw=137&amp;prev=/images%3Fq%3DCARAMBOLA%26gbv%3D2%26hl%3Des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i.pbase.com/u20/alexuchoa/upload/36629289.carambola2.jpg&amp;imgrefurl=http://www.pbase.com/alexuchoa/image/36629289&amp;usg=__z0orL4wHh7vrNSyL-htHrZo77Kg=&amp;h=425&amp;w=640&amp;sz=148&amp;hl=es&amp;start=2&amp;tbnid=8QMTYKcZXTsZQM:&amp;tbnh=91&amp;tbnw=137&amp;prev=/images%3Fq%3DCARAMBOLA%26gbv%3D2%26hl%3Des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i.pbase.com/u20/alexuchoa/upload/36629289.carambola2.jpg&amp;imgrefurl=http://www.pbase.com/alexuchoa/image/36629289&amp;usg=__z0orL4wHh7vrNSyL-htHrZo77Kg=&amp;h=425&amp;w=640&amp;sz=148&amp;hl=es&amp;start=2&amp;tbnid=8QMTYKcZXTsZQM:&amp;tbnh=91&amp;tbnw=137&amp;prev=/images%3Fq%3DCARAMBOLA%26gbv%3D2%26hl%3Des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Arial"/>
              </a:rPr>
              <a:t>CARAMBO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2997360"/>
            <a:ext cx="2376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ocida popularmente como "fruta estrella" o "star fruit".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tenece a la familia de las Oxalidác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a fruta con una forma muy bonita, de gran empleo en la decoración de diversos platos exquisitos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76280"/>
            <a:ext cx="1305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CED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uta originaria y propia de Indonesia y Mal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rincipales países productores hoy en día son Tailandia, Brasil, Colombia y Bolivi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33360"/>
            <a:ext cx="1305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ne una forma muy curiosa, ovalada, alargada, con cinco aristas o alas y, al corte, de estrella de cinco pun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 textura es de una piel fina, lustrosa y comestible, de color entre verde o dorado y amarillo-anaranjado cuando está mad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  pulpa es crujiente, de suave textura y amarilla vidriosa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04640"/>
            <a:ext cx="1305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tamaño y peso es pequeño, con una longitud que oscila entre 7 y 12 centímetro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bor, la pulpa tiene pocas o ninguna semilla, es abundante, crujiente, jugosa y con un fino sabor agridulce. Los frutos grandes de la carambola son más sabrosos y dulces que los más pequeños, con un sabor más agridul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ulpa de la carambola es rica en oxalato de calcio y fibra solubl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ene una cantidad moderada de provitamina A y de vitamina C.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130500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3:14:01Z</dcterms:created>
  <dc:creator>Walter Villalobos</dc:creator>
  <dc:description/>
  <dc:language>en-US</dc:language>
  <cp:lastModifiedBy>Walter Villalobos</cp:lastModifiedBy>
  <dcterms:modified xsi:type="dcterms:W3CDTF">2009-09-04T03:23:56Z</dcterms:modified>
  <cp:revision>9</cp:revision>
  <dc:subject/>
  <dc:title>Slide 1</dc:title>
</cp:coreProperties>
</file>