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4C6-6D43-461F-981A-96FCDBCE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3D7-7D56-4898-8115-05E9FD15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B81-EAE4-4293-AE8A-7CD142AD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73A-B997-44F1-93CD-6491482F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A2D-037F-4A89-ADCF-39819AF3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5E4-3D1A-4C1C-BF63-CB431C54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579-748E-4089-9230-C3B2C1D5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9E0-A670-4620-A3AF-D844EF46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177-8CBA-4FA3-9986-FD0B1008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B2F-6501-4B7C-881A-E318352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4B4-76E7-4681-98F0-DF4E35F8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584-D395-4862-843A-5ACD1971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605D-70DC-42DB-8FEE-D8A0270F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upload.wikimedia.org/wikipedia/commons/a/a3/Carambola_cut.jpg&amp;imgrefurl=http://commons.wikimedia.org/wiki/File:Carambola_cut.jpg&amp;usg=__UHcJsNyY6akGifK3iVcId299vnM=&amp;h=700&amp;w=1450&amp;sz=449&amp;hl=es&amp;start=18&amp;tbnid=2Bcm_pltUCo2rM:&amp;tbnh=72&amp;tbnw=150&amp;prev=/images%3Fq%3DCARAMBOLA%26gbv%3D2%26hl%3Des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ial"/>
              </a:rPr>
              <a:t>CARAMBO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2997360"/>
            <a:ext cx="2376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ida popularmente como "fruta estrella" o "star fruit"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tenece a la familia de las Oxalidác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a fruta con una forma muy bonita, de gran empleo en la decoración de diversos platos exquisitos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ta originaria y propia de Indonesia y Mal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rincipales países productores hoy en día son Tailandia, Brasil, Colombia y Bolivi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e una forma muy curiosa, ovalada, alargada, con cinco aristas o alas y, al corte, de estrella de cinco p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textura es de una piel fina, lustrosa y comestible, de color entre verde o dorado y amarillo-anaranjado cuando está mad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 pulpa es crujiente, de suave textura y amarilla vidrios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tamaño y peso es pequeño, con una longitud que oscila entre 7 y 12 centímetro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or, la pulpa tiene pocas o ninguna semilla, es abundante, crujiente, jugosa y con un fino sabor agridulce. Los frutos grandes de la carambola son más sabrosos y dulces que los más pequeños, con un sabor más agridul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ulpa de la carambola es rica en oxalato de calcio y fibra solub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ene una cantidad moderada de provitamina A y de vitamina C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1305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3:14:01Z</dcterms:created>
  <dc:creator>Walter Villalobos</dc:creator>
  <dc:description/>
  <dc:language>en-US</dc:language>
  <cp:lastModifiedBy>Walter Villalobos</cp:lastModifiedBy>
  <dcterms:modified xsi:type="dcterms:W3CDTF">2009-09-04T03:23:56Z</dcterms:modified>
  <cp:revision>9</cp:revision>
  <dc:subject/>
  <dc:title>Slide 1</dc:title>
</cp:coreProperties>
</file>