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694C-5FB7-4360-BC41-DDBDBCEB1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79C2-0F2B-496D-BB49-40DA9955F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4FCA-78FB-494F-BAA0-9A4301740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25E6-C4AB-4B41-AC57-FDAB8FD9B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56E5-8E56-4432-940D-BA17AC099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7D3E-1A7C-4FA1-A596-E655EC0BB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CAA1-F62A-4269-B91B-AF226905D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2AF4-95DE-45CC-8F0D-A4D96F607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43D5-6540-4A36-969F-8CD1DCD94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9A7B-7E7A-4AC2-861E-A2978B65F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B172-63CE-42C0-9F21-2302FB742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13EE-8EA0-43E9-89D2-4085A296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A9A42-CA7C-46F5-A766-06FB6334C4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.cr/imgres?imgurl=http://upload.wikimedia.org/wikipedia/commons/a/a3/Carambola_cut.jpg&amp;imgrefurl=http://commons.wikimedia.org/wiki/File:Carambola_cut.jpg&amp;usg=__UHcJsNyY6akGifK3iVcId299vnM=&amp;h=700&amp;w=1450&amp;sz=449&amp;hl=es&amp;start=18&amp;tbnid=2Bcm_pltUCo2rM:&amp;tbnh=72&amp;tbnw=150&amp;prev=/images%3Fq%3DCARAMBOLA%26gbv%3D2%26hl%3Des%26sa%3D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.cr/imgres?imgurl=http://i.pbase.com/u20/alexuchoa/upload/36629289.carambola2.jpg&amp;imgrefurl=http://www.pbase.com/alexuchoa/image/36629289&amp;usg=__z0orL4wHh7vrNSyL-htHrZo77Kg=&amp;h=425&amp;w=640&amp;sz=148&amp;hl=es&amp;start=2&amp;tbnid=8QMTYKcZXTsZQM:&amp;tbnh=91&amp;tbnw=137&amp;prev=/images%3Fq%3DCARAMBOLA%26gbv%3D2%26hl%3Des%26sa%3D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.cr/imgres?imgurl=http://i.pbase.com/u20/alexuchoa/upload/36629289.carambola2.jpg&amp;imgrefurl=http://www.pbase.com/alexuchoa/image/36629289&amp;usg=__z0orL4wHh7vrNSyL-htHrZo77Kg=&amp;h=425&amp;w=640&amp;sz=148&amp;hl=es&amp;start=2&amp;tbnid=8QMTYKcZXTsZQM:&amp;tbnh=91&amp;tbnw=137&amp;prev=/images%3Fq%3DCARAMBOLA%26gbv%3D2%26hl%3Des%26sa%3D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.cr/imgres?imgurl=http://i.pbase.com/u20/alexuchoa/upload/36629289.carambola2.jpg&amp;imgrefurl=http://www.pbase.com/alexuchoa/image/36629289&amp;usg=__z0orL4wHh7vrNSyL-htHrZo77Kg=&amp;h=425&amp;w=640&amp;sz=148&amp;hl=es&amp;start=2&amp;tbnid=8QMTYKcZXTsZQM:&amp;tbnh=91&amp;tbnw=137&amp;prev=/images%3Fq%3DCARAMBOLA%26gbv%3D2%26hl%3Des%26sa%3D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400" spc="-1" strike="noStrike">
                <a:solidFill>
                  <a:srgbClr val="000000"/>
                </a:solidFill>
                <a:latin typeface="Arial"/>
              </a:rPr>
              <a:t>CARAMBOL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2997360"/>
            <a:ext cx="237636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GENERALID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nocida popularmente como "fruta estrella" o "star fruit". 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ertenece a la familia de las Oxalidáce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 una fruta con una forma muy bonita, de gran empleo en la decoración de diversos platos exquisitos.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476280"/>
            <a:ext cx="130500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PROCEDEN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uta originaria y propia de Indonesia y Malas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principales países productores hoy en día son Tailandia, Brasil, Colombia y Bolivia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333360"/>
            <a:ext cx="130500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CARACTERÍST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ene una forma muy curiosa, ovalada, alargada, con cinco aristas o alas y, al corte, de estrella de cinco punt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 textura es de una piel fina, lustrosa y comestible, de color entre verde o dorado y amarillo-anaranjado cuando está madu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  pulpa es crujiente, de suave textura y amarilla vidriosa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404640"/>
            <a:ext cx="130500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CARACTERÍST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 tamaño y peso es pequeño, con una longitud que oscila entre 7 y 12 centímetros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bor, la pulpa tiene pocas o ninguna semilla, es abundante, crujiente, jugosa y con un fino sabor agridulce. Los frutos grandes de la carambola son más sabrosos y dulces que los más pequeños, con un sabor más agridul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pulpa de la carambola es rica en oxalato de calcio y fibra soluble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ene una cantidad moderada de provitamina A y de vitamina C.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1305000" cy="86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4T03:14:01Z</dcterms:created>
  <dc:creator>Walter Villalobos</dc:creator>
  <dc:description/>
  <dc:language>en-US</dc:language>
  <cp:lastModifiedBy>Walter Villalobos</cp:lastModifiedBy>
  <dcterms:modified xsi:type="dcterms:W3CDTF">2009-09-04T03:23:56Z</dcterms:modified>
  <cp:revision>9</cp:revision>
  <dc:subject/>
  <dc:title>Slide 1</dc:title>
</cp:coreProperties>
</file>