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1D5F-9E84-434B-9C6C-79B1C207A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5014-F9A6-467C-8AE6-BBF880F8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3747-8A28-416E-B115-822601CBF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FF87-50ED-460C-AF14-A331B9F6F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8A5D-ABA5-4A97-9BCD-F9490B221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CE4B-6880-4F5F-8332-3191A413A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BFE5-7003-4911-9F9E-6C9244341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38BF-2C13-4934-8DC7-326F8586F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D2DF-C684-430B-8599-1099BBDA2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D0B3-970C-47F6-9A81-9210C8B0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932C-8FCC-43C1-81C6-8234194E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55DF-C9AD-4D57-BF0F-C189BF24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A6170-CCE5-4467-B7CF-E15D25A85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.cr/imgres?imgurl=http://upload.wikimedia.org/wikipedia/commons/a/a3/Carambola_cut.jpg&amp;imgrefurl=http://commons.wikimedia.org/wiki/File:Carambola_cut.jpg&amp;usg=__UHcJsNyY6akGifK3iVcId299vnM=&amp;h=700&amp;w=1450&amp;sz=449&amp;hl=es&amp;start=18&amp;tbnid=2Bcm_pltUCo2rM:&amp;tbnh=72&amp;tbnw=150&amp;prev=/images%3Fq%3DCARAMBOLA%26gbv%3D2%26hl%3Des%26sa%3D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.cr/imgres?imgurl=http://i.pbase.com/u20/alexuchoa/upload/36629289.carambola2.jpg&amp;imgrefurl=http://www.pbase.com/alexuchoa/image/36629289&amp;usg=__z0orL4wHh7vrNSyL-htHrZo77Kg=&amp;h=425&amp;w=640&amp;sz=148&amp;hl=es&amp;start=2&amp;tbnid=8QMTYKcZXTsZQM:&amp;tbnh=91&amp;tbnw=137&amp;prev=/images%3Fq%3DCARAMBOLA%26gbv%3D2%26hl%3Des%26sa%3D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cr/imgres?imgurl=http://i.pbase.com/u20/alexuchoa/upload/36629289.carambola2.jpg&amp;imgrefurl=http://www.pbase.com/alexuchoa/image/36629289&amp;usg=__z0orL4wHh7vrNSyL-htHrZo77Kg=&amp;h=425&amp;w=640&amp;sz=148&amp;hl=es&amp;start=2&amp;tbnid=8QMTYKcZXTsZQM:&amp;tbnh=91&amp;tbnw=137&amp;prev=/images%3Fq%3DCARAMBOLA%26gbv%3D2%26hl%3Des%26sa%3D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.cr/imgres?imgurl=http://i.pbase.com/u20/alexuchoa/upload/36629289.carambola2.jpg&amp;imgrefurl=http://www.pbase.com/alexuchoa/image/36629289&amp;usg=__z0orL4wHh7vrNSyL-htHrZo77Kg=&amp;h=425&amp;w=640&amp;sz=148&amp;hl=es&amp;start=2&amp;tbnid=8QMTYKcZXTsZQM:&amp;tbnh=91&amp;tbnw=137&amp;prev=/images%3Fq%3DCARAMBOLA%26gbv%3D2%26hl%3Des%26sa%3D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000000"/>
                </a:solidFill>
                <a:latin typeface="Arial"/>
              </a:rPr>
              <a:t>CARAMBOL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2997360"/>
            <a:ext cx="237636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GENERALID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ocida popularmente como "fruta estrella" o "star fruit". 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ertenece a la familia de las Oxalidác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 una fruta con una forma muy bonita, de gran empleo en la decoración de diversos platos exquisitos.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476280"/>
            <a:ext cx="130500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PROCEDE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uta originaria y propia de Indonesia y Malas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principales países productores hoy en día son Tailandia, Brasil, Colombia y Bolivia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333360"/>
            <a:ext cx="130500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CARACTERÍS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ene una forma muy curiosa, ovalada, alargada, con cinco aristas o alas y, al corte, de estrella de cinco punt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 textura es de una piel fina, lustrosa y comestible, de color entre verde o dorado y amarillo-anaranjado cuando está madu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  pulpa es crujiente, de suave textura y amarilla vidriosa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404640"/>
            <a:ext cx="130500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CARACTERÍS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 tamaño y peso es pequeño, con una longitud que oscila entre 7 y 12 centímetros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bor, la pulpa tiene pocas o ninguna semilla, es abundante, crujiente, jugosa y con un fino sabor agridulce. Los frutos grandes de la carambola son más sabrosos y dulces que los más pequeños, con un sabor más agridul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pulpa de la carambola es rica en oxalato de calcio y fibra soluble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ene una cantidad moderada de provitamina A y de vitamina C.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1305000" cy="86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4T03:14:01Z</dcterms:created>
  <dc:creator>Walter Villalobos</dc:creator>
  <dc:description/>
  <dc:language>en-US</dc:language>
  <cp:lastModifiedBy>Walter Villalobos</cp:lastModifiedBy>
  <dcterms:modified xsi:type="dcterms:W3CDTF">2009-09-04T03:23:56Z</dcterms:modified>
  <cp:revision>9</cp:revision>
  <dc:subject/>
  <dc:title>Slide 1</dc:title>
</cp:coreProperties>
</file>