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DA9EB-1E2B-4241-B83C-2C9C92984B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7FE69-376E-4B25-BCCA-E55FCB536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7268A9-3A9C-478C-B02D-F710889FEA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23F583-10E8-4BD7-88A6-A6B9044F7C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522B6-530B-42DA-A76D-C7B3C9A36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A3B12-2338-4AC6-B4F8-6B3284FB1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E91AB-956A-40F3-8162-A504FD7E9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FCA96-B189-4AED-9E94-438AD2035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64FD4-96AC-47B6-915E-88718617C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6E39F-35C9-4FD7-AA99-126811A59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43781-50B5-44EF-A370-85827D67F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6913C-3CF1-4EDF-8089-1E15C20FB7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BFD41-85A8-44F0-85B5-F0049EF038A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images.google.co.cr/imgres?imgurl=http://www.hotelcampoverde.com/act_index/bandera_de_Costa_Rica.gif&amp;imgrefurl=http://www.hotelcampoverde.com/doc_bienvenido/hotel.html&amp;usg=__iX8Nk-jdENDBdmk9yvhN0xhqnZU=&amp;h=120&amp;w=160&amp;sz=43&amp;hl=es&amp;start=16&amp;tbnid=E-TmPlsB-GtXsM:&amp;tbnh=74&amp;tbnw=98&amp;prev=/images%3Fq%3Dbandera%2Bde%2Bcosta%2Brica%26gbv%3D2%26hl%3Des"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cr/imgres?imgurl=http://www.hotelcampoverde.com/act_index/bandera_de_Costa_Rica.gif&amp;imgrefurl=http://www.hotelcampoverde.com/doc_bienvenido/hotel.html&amp;usg=__iX8Nk-jdENDBdmk9yvhN0xhqnZU=&amp;h=120&amp;w=160&amp;sz=43&amp;hl=es&amp;start=16&amp;tbnid=E-TmPlsB-GtXsM:&amp;tbnh=74&amp;tbnw=98&amp;prev=/images%3Fq%3Dbandera%2Bde%2Bcosta%2Brica%26gbv%3D2%26hl%3Des"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mages.google.co.cr/imgres?imgurl=http://www.hotelcampoverde.com/act_index/bandera_de_Costa_Rica.gif&amp;imgrefurl=http://www.hotelcampoverde.com/doc_bienvenido/hotel.html&amp;usg=__iX8Nk-jdENDBdmk9yvhN0xhqnZU=&amp;h=120&amp;w=160&amp;sz=43&amp;hl=es&amp;start=16&amp;tbnid=E-TmPlsB-GtXsM:&amp;tbnh=74&amp;tbnw=98&amp;prev=/images%3Fq%3Dbandera%2Bde%2Bcosta%2Brica%26gbv%3D2%26hl%3Des"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images.google.co.cr/imgres?imgurl=http://www.hotelcampoverde.com/act_index/bandera_de_Costa_Rica.gif&amp;imgrefurl=http://www.hotelcampoverde.com/doc_bienvenido/hotel.html&amp;usg=__iX8Nk-jdENDBdmk9yvhN0xhqnZU=&amp;h=120&amp;w=160&amp;sz=43&amp;hl=es&amp;start=16&amp;tbnid=E-TmPlsB-GtXsM:&amp;tbnh=74&amp;tbnw=98&amp;prev=/images%3Fq%3Dbandera%2Bde%2Bcosta%2Brica%26gbv%3D2%26hl%3Des"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images.google.co.cr/imgres?imgurl=http://www.hotelcampoverde.com/act_index/bandera_de_Costa_Rica.gif&amp;imgrefurl=http://www.hotelcampoverde.com/doc_bienvenido/hotel.html&amp;usg=__iX8Nk-jdENDBdmk9yvhN0xhqnZU=&amp;h=120&amp;w=160&amp;sz=43&amp;hl=es&amp;start=16&amp;tbnid=E-TmPlsB-GtXsM:&amp;tbnh=74&amp;tbnw=98&amp;prev=/images%3Fq%3Dbandera%2Bde%2Bcosta%2Brica%26gbv%3D2%26hl%3Des"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96640"/>
            <a:ext cx="7772400" cy="15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293"/>
                </a:solidFill>
                <a:latin typeface="Arial"/>
              </a:rPr>
              <a:t>COSTA RICA</a:t>
            </a:r>
            <a:endParaRPr b="0" lang="en-US" sz="4400" spc="-1" strike="noStrike">
              <a:solidFill>
                <a:srgbClr val="dfd293"/>
              </a:solidFill>
              <a:latin typeface="Arial"/>
            </a:endParaRPr>
          </a:p>
        </p:txBody>
      </p:sp>
      <p:pic>
        <p:nvPicPr>
          <p:cNvPr id="42" name="" descr="Ver imagen en tamaño completo"/>
          <p:cNvPicPr/>
          <p:nvPr/>
        </p:nvPicPr>
        <p:blipFill>
          <a:blip r:embed="rId1"/>
          <a:stretch/>
        </p:blipFill>
        <p:spPr>
          <a:xfrm>
            <a:off x="3059280" y="3429000"/>
            <a:ext cx="2952720" cy="2305080"/>
          </a:xfrm>
          <a:prstGeom prst="rect">
            <a:avLst/>
          </a:prstGeom>
          <a:ln w="0">
            <a:noFill/>
          </a:ln>
        </p:spPr>
      </p:pic>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293"/>
                </a:solidFill>
                <a:latin typeface="Arial"/>
              </a:rPr>
              <a:t>LOCALIZACION</a:t>
            </a:r>
            <a:endParaRPr b="0" lang="en-US" sz="4400" spc="-1" strike="noStrike">
              <a:solidFill>
                <a:srgbClr val="dfd293"/>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e meridional de la América Centr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mita al este con el Mar Caribe, al Sudeste con Panamá y al sur y al oeste con el Océano Pacífico. </a:t>
            </a:r>
            <a:endParaRPr b="0" lang="en-US" sz="3200" spc="-1" strike="noStrike">
              <a:solidFill>
                <a:srgbClr val="ffffff"/>
              </a:solidFill>
              <a:latin typeface="Arial"/>
            </a:endParaRPr>
          </a:p>
        </p:txBody>
      </p:sp>
      <p:pic>
        <p:nvPicPr>
          <p:cNvPr id="45" name="" descr="">
            <a:hlinkClick r:id="rId1"/>
          </p:cNvPr>
          <p:cNvPicPr/>
          <p:nvPr/>
        </p:nvPicPr>
        <p:blipFill>
          <a:blip r:embed="rId2"/>
          <a:stretch/>
        </p:blipFill>
        <p:spPr>
          <a:xfrm>
            <a:off x="611280" y="404640"/>
            <a:ext cx="933480" cy="704880"/>
          </a:xfrm>
          <a:prstGeom prst="rect">
            <a:avLst/>
          </a:prstGeom>
          <a:ln w="0">
            <a:noFill/>
          </a:ln>
        </p:spPr>
      </p:pic>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293"/>
                </a:solidFill>
                <a:latin typeface="Arial"/>
              </a:rPr>
              <a:t>GENERALIDADES</a:t>
            </a:r>
            <a:endParaRPr b="0" lang="en-US" sz="4400" spc="-1" strike="noStrike">
              <a:solidFill>
                <a:srgbClr val="dfd293"/>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u superficie es de de 51. 100 km cuadrado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u población son casi cuatro millones de persona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 capital del país es San José.  </a:t>
            </a:r>
            <a:endParaRPr b="0" lang="en-US" sz="3200" spc="-1" strike="noStrike">
              <a:solidFill>
                <a:srgbClr val="ffffff"/>
              </a:solidFill>
              <a:latin typeface="Arial"/>
            </a:endParaRPr>
          </a:p>
        </p:txBody>
      </p:sp>
      <p:pic>
        <p:nvPicPr>
          <p:cNvPr id="48" name="" descr="">
            <a:hlinkClick r:id="rId1"/>
          </p:cNvPr>
          <p:cNvPicPr/>
          <p:nvPr/>
        </p:nvPicPr>
        <p:blipFill>
          <a:blip r:embed="rId2"/>
          <a:stretch/>
        </p:blipFill>
        <p:spPr>
          <a:xfrm>
            <a:off x="684360" y="620640"/>
            <a:ext cx="933480" cy="70488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293"/>
                </a:solidFill>
                <a:latin typeface="Arial"/>
              </a:rPr>
              <a:t>ECONOMÍA</a:t>
            </a:r>
            <a:endParaRPr b="0" lang="en-US" sz="4400" spc="-1" strike="noStrike">
              <a:solidFill>
                <a:srgbClr val="dfd293"/>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 bastante estable, y depende esencialmente del turismo y la exportación de productos agrícolas, como el café, el banano, la caña de azúcar, frutas tropicales y flores entre otros.</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ee cultivos de maíz, frijol, hortalizas, tabaco y algodón. </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actividad ganadera está conformada por ganado vacuno, porcino y caballar, así como de aves de corral.</a:t>
            </a:r>
            <a:endParaRPr b="0" lang="en-US" sz="2800" spc="-1" strike="noStrike">
              <a:solidFill>
                <a:srgbClr val="ffffff"/>
              </a:solidFill>
              <a:latin typeface="Arial"/>
            </a:endParaRPr>
          </a:p>
        </p:txBody>
      </p:sp>
      <p:pic>
        <p:nvPicPr>
          <p:cNvPr id="51" name="" descr="">
            <a:hlinkClick r:id="rId1"/>
          </p:cNvPr>
          <p:cNvPicPr/>
          <p:nvPr/>
        </p:nvPicPr>
        <p:blipFill>
          <a:blip r:embed="rId2"/>
          <a:stretch/>
        </p:blipFill>
        <p:spPr>
          <a:xfrm>
            <a:off x="755640" y="404640"/>
            <a:ext cx="933480" cy="704880"/>
          </a:xfrm>
          <a:prstGeom prst="rect">
            <a:avLst/>
          </a:prstGeom>
          <a:ln w="0">
            <a:noFill/>
          </a:ln>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293"/>
                </a:solidFill>
                <a:latin typeface="Arial"/>
              </a:rPr>
              <a:t>FLORA</a:t>
            </a:r>
            <a:endParaRPr b="0" lang="en-US" sz="4400" spc="-1" strike="noStrike">
              <a:solidFill>
                <a:srgbClr val="dfd293"/>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 puede distinguir la selva tropical, en los litorales del nordeste y del sur, donde las lluvias son más abundantes, presentando una vegetación de árboles de grandes dimensione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ona montañosa del Atlántico, entre los 800 y los 1500 m. sobre el nivel del mar, la vegetación es característica del bosque tropical húmedo, mientras que el seco es el que predomina en la Meseta Central, donde crecen menos árboles, y en cambio, proliferan las gramíneas y las plantas herbáceas. La sabana se encuentra en Potrero Grande y en algunas zonas de Guanacaste.</a:t>
            </a: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54" name="" descr=""/>
          <p:cNvPicPr/>
          <p:nvPr/>
        </p:nvPicPr>
        <p:blipFill>
          <a:blip r:embed="rId1"/>
          <a:stretch/>
        </p:blipFill>
        <p:spPr>
          <a:xfrm>
            <a:off x="826920" y="404640"/>
            <a:ext cx="933480" cy="704880"/>
          </a:xfrm>
          <a:prstGeom prst="rect">
            <a:avLst/>
          </a:prstGeom>
          <a:ln w="0">
            <a:noFill/>
          </a:ln>
        </p:spPr>
      </p:pic>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293"/>
                </a:solidFill>
                <a:latin typeface="Arial"/>
              </a:rPr>
              <a:t>FLORA</a:t>
            </a:r>
            <a:endParaRPr b="0" lang="en-US" sz="4400" spc="-1" strike="noStrike">
              <a:solidFill>
                <a:srgbClr val="dfd293"/>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 las regiones más altas, predomina el bosque tropical mixto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 respecto a la fauna costarricense, se puede decir que pertenece exclusivamente a la zona geográfica llamada neotropical, que abarca a la América del Sur, la Central, parte de México y las Antillas.</a:t>
            </a:r>
            <a:endParaRPr b="0" lang="en-US" sz="3200" spc="-1" strike="noStrike">
              <a:solidFill>
                <a:srgbClr val="ffffff"/>
              </a:solidFill>
              <a:latin typeface="Arial"/>
            </a:endParaRPr>
          </a:p>
        </p:txBody>
      </p:sp>
      <p:pic>
        <p:nvPicPr>
          <p:cNvPr id="57" name="" descr="">
            <a:hlinkClick r:id="rId1"/>
          </p:cNvPr>
          <p:cNvPicPr/>
          <p:nvPr/>
        </p:nvPicPr>
        <p:blipFill>
          <a:blip r:embed="rId2"/>
          <a:stretch/>
        </p:blipFill>
        <p:spPr>
          <a:xfrm>
            <a:off x="826920" y="476280"/>
            <a:ext cx="933480" cy="70488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293"/>
                </a:solidFill>
                <a:latin typeface="Arial"/>
              </a:rPr>
              <a:t>FAUNA</a:t>
            </a:r>
            <a:endParaRPr b="0" lang="en-US" sz="4400" spc="-1" strike="noStrike">
              <a:solidFill>
                <a:srgbClr val="dfd293"/>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Costa Rica es extraordinariamente numerosa y diversa, las especies que pose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pecies de Tucanes, Dantas, Venados, Osos Hormigueros, Perezosos, Monos, Pizotes, Nutrias, Zorros, Jaguares, Ocelotes y Pumas, Lapas entre otros muchos animales. </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s áreas silvestres hospedan cerca de 13.000 especies de plantas, más de 2.000 especies de mariposas diurnas, 4.500 nocturnas, 163 de anfibios</a:t>
            </a:r>
            <a:r>
              <a:rPr b="0" lang="es-E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0" name="" descr="">
            <a:hlinkClick r:id="rId1"/>
          </p:cNvPr>
          <p:cNvPicPr/>
          <p:nvPr/>
        </p:nvPicPr>
        <p:blipFill>
          <a:blip r:embed="rId2"/>
          <a:stretch/>
        </p:blipFill>
        <p:spPr>
          <a:xfrm>
            <a:off x="611280" y="333360"/>
            <a:ext cx="933480" cy="704880"/>
          </a:xfrm>
          <a:prstGeom prst="rect">
            <a:avLst/>
          </a:prstGeom>
          <a:ln w="0">
            <a:noFill/>
          </a:ln>
        </p:spPr>
      </p:pic>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4T02:44:24Z</dcterms:created>
  <dc:creator>Walter Villalobos</dc:creator>
  <dc:description/>
  <dc:language>en-US</dc:language>
  <cp:lastModifiedBy>Walter Villalobos</cp:lastModifiedBy>
  <dcterms:modified xsi:type="dcterms:W3CDTF">2009-09-04T03:01:57Z</dcterms:modified>
  <cp:revision>9</cp:revision>
  <dc:subject/>
  <dc:title>COSTA RICA</dc:title>
</cp:coreProperties>
</file>