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E058-B4FF-4390-9FA4-6A7812CAB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4A6D-101F-429D-B7A2-0D8CAD3E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0EB6-1DF4-4EBD-8650-8A3699DE8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AA16-A154-4D55-B8FD-BB52A45B3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9A35-8FF4-4006-B34F-CFF4EB06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7D20-F7AD-4665-9A71-42836CB3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2212-029A-4BAB-B6CC-5ADE3021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4A91-66E5-4F90-94B5-FFB387C1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1D7A-8BAC-4202-A056-76A377E6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0FED-18C9-4EA7-8129-7129D39C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1A79-DA42-46B4-A33E-49FE6A47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8BC3-C45B-46F7-B1BB-4F84E1E0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6A9E-E381-4A3C-BE58-66B84CA96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cr/imgres?imgurl=http://articulos.infojardin.com/Frutales/fichas/foto-frutales/psidium-guajava.jpg&amp;imgrefurl=http://articulos.infojardin.com/Frutales/fichas/guayabos-guayabas-guayabero-psidium-guayava.htm&amp;usg=__mXAo8R1a_jFAiDwacOn6tk4K1ko=&amp;h=250&amp;w=276&amp;sz=7&amp;hl=es&amp;start=4&amp;tbnid=EOdThtmSbEH3sM:&amp;tbnh=103&amp;tbnw=114&amp;prev=/images%3Fq%3DGUAYABA%26gbv%3D2%26hl%3Des%26sa%3D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.cr/imgres?imgurl=http://www.zoobaq.org/planetazoo/planeta_images/GUAYABA%2520MADURA.JPG&amp;imgrefurl=http://www.zoobaq.org/planetazoo/index.php%3Fid%3D13%26id_cat%3D5%26id_cont%3D156&amp;usg=__LkfaHE2P_3ubgoMqXF08co5vFYQ=&amp;h=235&amp;w=297&amp;sz=17&amp;hl=es&amp;start=57&amp;tbnid=9vZf77i2LCc8iM:&amp;tbnh=92&amp;tbnw=116&amp;prev=/images%3Fq%3DGUAYABA%26gbv%3D2%26ndsp%3D18%26hl%3Des%26sa%3DN%26start%3D54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cr/imgres?imgurl=http://www.zoobaq.org/planetazoo/planeta_images/GUAYABA%2520MADURA.JPG&amp;imgrefurl=http://www.zoobaq.org/planetazoo/index.php%3Fid%3D13%26id_cat%3D5%26id_cont%3D156&amp;usg=__LkfaHE2P_3ubgoMqXF08co5vFYQ=&amp;h=235&amp;w=297&amp;sz=17&amp;hl=es&amp;start=57&amp;tbnid=9vZf77i2LCc8iM:&amp;tbnh=92&amp;tbnw=116&amp;prev=/images%3Fq%3DGUAYABA%26gbv%3D2%26ndsp%3D18%26hl%3Des%26sa%3DN%26start%3D54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cr/imgres?imgurl=http://www.zoobaq.org/planetazoo/planeta_images/GUAYABA%2520MADURA.JPG&amp;imgrefurl=http://www.zoobaq.org/planetazoo/index.php%3Fid%3D13%26id_cat%3D5%26id_cont%3D156&amp;usg=__LkfaHE2P_3ubgoMqXF08co5vFYQ=&amp;h=235&amp;w=297&amp;sz=17&amp;hl=es&amp;start=57&amp;tbnid=9vZf77i2LCc8iM:&amp;tbnh=92&amp;tbnw=116&amp;prev=/images%3Fq%3DGUAYABA%26gbv%3D2%26ndsp%3D18%26hl%3Des%26sa%3DN%26start%3D54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.cr/imgres?imgurl=http://www.dominicanflave.com/i//carinitos_de_guayaba.jpg&amp;imgrefurl=http://www.dominicanflave.com/articles/article/4513520/118879.htm&amp;usg=__GcjLDz2OzlIuaJ30chk52B7fnsA=&amp;h=352&amp;w=516&amp;sz=201&amp;hl=es&amp;start=61&amp;tbnid=ta25B0a0pmfteM:&amp;tbnh=89&amp;tbnw=131&amp;prev=/images%3Fq%3DGUAYABA%26gbv%3D2%26ndsp%3D18%26hl%3Des%26sa%3DN%26start%3D54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co.cr/imgres?imgurl=http://2.bp.blogspot.com/_qFBGyY-0KLU/SQODZJ1w_kI/AAAAAAAABt4/YtYaXBcMv2c/s400/Dulce%2Bde%2B%2Bguayaba.jpg&amp;imgrefurl=http://cubajournal.blogspot.com/2008/10/guayaba-el-ms-cubano-entre-los-dulces.html&amp;usg=__-IwqoIetzXJ3IURF6QtLxLaWsMc=&amp;h=240&amp;w=320&amp;sz=23&amp;hl=es&amp;start=47&amp;tbnid=Iyr5iFICktMbcM:&amp;tbnh=89&amp;tbnw=118&amp;prev=/images%3Fq%3DGUAYABA%26gbv%3D2%26ndsp%3D18%26hl%3Des%26sa%3DN%26start%3D36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co.cr/imgres?imgurl=http://www.elcolmadito.com/Arte/MasProductos/BohioPastadeGuayaba21onz_2.jpg&amp;imgrefurl=http://www.elcolmadito.com/USBohioDetail.asp%3FOrderNumber%3D953&amp;usg=__JLAHxTK7guWRoo7ofjROUvqzdWw=&amp;h=295&amp;w=300&amp;sz=22&amp;hl=es&amp;start=29&amp;tbnid=mlvbj7IbNgDEzM:&amp;tbnh=114&amp;tbnw=116&amp;prev=/images%3Fq%3DGUAYABA%26gbv%3D2%26ndsp%3D18%26hl%3Des%26sa%3DN%26start%3D18" TargetMode="External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1300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000000"/>
                </a:solidFill>
                <a:latin typeface="Arial"/>
              </a:rPr>
              <a:t>GUAYAB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64000" y="4272120"/>
            <a:ext cx="208764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GENERAL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ivo originario de América Tropical y actualmente se encuentra muy difundido en todo el mu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forma del fruto depende de la variedad, lo mismo que el color de la pulpa y la cáscara, los hay redondos como pelotas y ovalados en forma de pe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madurez se observa en la cáscara cuando alcanzan un color verde amarillento, o amarillo rosa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333360"/>
            <a:ext cx="110484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BENEF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ropiedades de hidratadora, por su alto contenido en agu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u contenido de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vitamina C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s muy superior a cítricos como la nara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yuda a la visión por su aporte de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vitamina A o beta-caroten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sistema nervioso se ve protegido y regulado por la participación e integración de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otasi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su ingest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ctúa como un leve laxante por el aporte de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ib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404640"/>
            <a:ext cx="1104840" cy="8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U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ermeladas, pastas, bocadillos, confites, rellenos, jaleas, jug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404640"/>
            <a:ext cx="1104840" cy="876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19640" y="3213000"/>
            <a:ext cx="1247760" cy="847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258920" y="4365720"/>
            <a:ext cx="1123920" cy="847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659640" y="2565360"/>
            <a:ext cx="1104840" cy="1085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5508720" y="4581360"/>
            <a:ext cx="12952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4T13:34:33Z</dcterms:created>
  <dc:creator>Carolina Amerling</dc:creator>
  <dc:description/>
  <dc:language>en-US</dc:language>
  <cp:lastModifiedBy>Carolina Amerling</cp:lastModifiedBy>
  <dcterms:modified xsi:type="dcterms:W3CDTF">2009-09-04T13:48:49Z</dcterms:modified>
  <cp:revision>6</cp:revision>
  <dc:subject/>
  <dc:title>Slide 1</dc:title>
</cp:coreProperties>
</file>