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47B-DD7A-481C-BE4D-D47F76E6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E99-8D2C-4808-B875-5809AE13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6E7-A28A-46B7-8EB1-DCAA45FB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B2F-7662-40E5-ABBD-9BF68CE8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DAB-51FE-42F0-93F9-C1B65DA1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3DA-C0FD-4A82-9AC6-4A65771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C4B-5624-4A22-AD44-07471307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24D-64E6-4CCD-95B2-01EC992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EA1-330E-4070-A090-1B5970A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99A-EBDF-420D-8506-34934DD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F72-5369-4923-B2CF-A311FDBC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25D-6111-4DE6-B77C-EF027FA8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6C4F-4BE1-4A7B-8F79-975B3828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articulos.infojardin.com/Frutales/fichas/foto-frutales/psidium-guajava.jpg&amp;imgrefurl=http://articulos.infojardin.com/Frutales/fichas/guayabos-guayabas-guayabero-psidium-guayava.htm&amp;usg=__mXAo8R1a_jFAiDwacOn6tk4K1ko=&amp;h=250&amp;w=276&amp;sz=7&amp;hl=es&amp;start=4&amp;tbnid=EOdThtmSbEH3sM:&amp;tbnh=103&amp;tbnw=114&amp;prev=/images%3Fq%3DGUAYABA%26gbv%3D2%26hl%3Des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cr/imgres?imgurl=http://www.zoobaq.org/planetazoo/planeta_images/GUAYABA%2520MADURA.JPG&amp;imgrefurl=http://www.zoobaq.org/planetazoo/index.php%3Fid%3D13%26id_cat%3D5%26id_cont%3D156&amp;usg=__LkfaHE2P_3ubgoMqXF08co5vFYQ=&amp;h=235&amp;w=297&amp;sz=17&amp;hl=es&amp;start=57&amp;tbnid=9vZf77i2LCc8iM:&amp;tbnh=92&amp;tbnw=116&amp;prev=/images%3Fq%3DGUAYABA%26gbv%3D2%26ndsp%3D18%26hl%3Des%26sa%3DN%26start%3D5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.cr/imgres?imgurl=http://www.dominicanflave.com/i//carinitos_de_guayaba.jpg&amp;imgrefurl=http://www.dominicanflave.com/articles/article/4513520/118879.htm&amp;usg=__GcjLDz2OzlIuaJ30chk52B7fnsA=&amp;h=352&amp;w=516&amp;sz=201&amp;hl=es&amp;start=61&amp;tbnid=ta25B0a0pmfteM:&amp;tbnh=89&amp;tbnw=131&amp;prev=/images%3Fq%3DGUAYABA%26gbv%3D2%26ndsp%3D18%26hl%3Des%26sa%3DN%26start%3D54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.cr/imgres?imgurl=http://2.bp.blogspot.com/_qFBGyY-0KLU/SQODZJ1w_kI/AAAAAAAABt4/YtYaXBcMv2c/s400/Dulce%2Bde%2B%2Bguayaba.jpg&amp;imgrefurl=http://cubajournal.blogspot.com/2008/10/guayaba-el-ms-cubano-entre-los-dulces.html&amp;usg=__-IwqoIetzXJ3IURF6QtLxLaWsMc=&amp;h=240&amp;w=320&amp;sz=23&amp;hl=es&amp;start=47&amp;tbnid=Iyr5iFICktMbcM:&amp;tbnh=89&amp;tbnw=118&amp;prev=/images%3Fq%3DGUAYABA%26gbv%3D2%26ndsp%3D18%26hl%3Des%26sa%3DN%26start%3D36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.cr/imgres?imgurl=http://www.elcolmadito.com/Arte/MasProductos/BohioPastadeGuayaba21onz_2.jpg&amp;imgrefurl=http://www.elcolmadito.com/USBohioDetail.asp%3FOrderNumber%3D953&amp;usg=__JLAHxTK7guWRoo7ofjROUvqzdWw=&amp;h=295&amp;w=300&amp;sz=22&amp;hl=es&amp;start=29&amp;tbnid=mlvbj7IbNgDEzM:&amp;tbnh=114&amp;tbnw=116&amp;prev=/images%3Fq%3DGUAYABA%26gbv%3D2%26ndsp%3D18%26hl%3Des%26sa%3DN%26start%3D18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GUAY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4272120"/>
            <a:ext cx="20876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o originario de América Tropical y actualmente se encuentra muy difundido en todo el mu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forma del fruto depende de la variedad, lo mismo que el color de la pulpa y la cáscara, los hay redondos como pelotas y ovalados en forma de p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durez se observa en la cáscara cuando alcanzan un color verde amarillento, o amarillo rosa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33360"/>
            <a:ext cx="11048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piedades de hidratadora, por su alto contenido en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 contenido d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vitamina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muy superior a cítricos como la nar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yuda a la visión por su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vitamina A o beta-carote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sistema nervioso se ve protegido y regulado por la participación e integración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otasi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u ingest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úa como un leve laxante por el aporte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i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04640"/>
            <a:ext cx="110484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meladas, pastas, bocadillos, confites, rellenos, jaleas, ju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1104840" cy="87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213000"/>
            <a:ext cx="1247760" cy="84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365720"/>
            <a:ext cx="1123920" cy="847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59640" y="256536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508720" y="4581360"/>
            <a:ext cx="1295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4:33Z</dcterms:created>
  <dc:creator>Carolina Amerling</dc:creator>
  <dc:description/>
  <dc:language>en-US</dc:language>
  <cp:lastModifiedBy>Carolina Amerling</cp:lastModifiedBy>
  <dcterms:modified xsi:type="dcterms:W3CDTF">2009-09-04T13:48:49Z</dcterms:modified>
  <cp:revision>6</cp:revision>
  <dc:subject/>
  <dc:title>Slide 1</dc:title>
</cp:coreProperties>
</file>