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C8D-ADC8-480C-8120-EA701BA0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AB1-25A5-421F-AD16-52F4B1D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8D4-344D-495A-8A23-564C254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3B2-CFB8-4BAC-B454-A7E7C652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0C9-723D-4628-BB2B-EA1C008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C4E-FF02-4690-A6F1-2660A041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4D8-47FC-4494-A39B-094001C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F02-53B1-4203-ABF7-A3712FF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47D-715C-4D84-A8DC-7082708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45F-6FC6-46CC-AED0-1EE6BEA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856-1004-463A-ACB5-5E8D0C3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CFB-E63B-4C74-A70C-541663E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E9A-D58F-464A-AEFC-E7E8AB43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articulos.infojardin.com/Frutales/fichas/foto-frutales/psidium-guajava.jpg&amp;imgrefurl=http://articulos.infojardin.com/Frutales/fichas/guayabos-guayabas-guayabero-psidium-guayava.htm&amp;usg=__mXAo8R1a_jFAiDwacOn6tk4K1ko=&amp;h=250&amp;w=276&amp;sz=7&amp;hl=es&amp;start=4&amp;tbnid=EOdThtmSbEH3sM:&amp;tbnh=103&amp;tbnw=114&amp;prev=/images%3Fq%3DGUAYAB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cr/imgres?imgurl=http://www.dominicanflave.com/i//carinitos_de_guayaba.jpg&amp;imgrefurl=http://www.dominicanflave.com/articles/article/4513520/118879.htm&amp;usg=__GcjLDz2OzlIuaJ30chk52B7fnsA=&amp;h=352&amp;w=516&amp;sz=201&amp;hl=es&amp;start=61&amp;tbnid=ta25B0a0pmfteM:&amp;tbnh=89&amp;tbnw=131&amp;prev=/images%3Fq%3DGUAYABA%26gbv%3D2%26ndsp%3D18%26hl%3Des%26sa%3DN%26start%3D54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cr/imgres?imgurl=http://2.bp.blogspot.com/_qFBGyY-0KLU/SQODZJ1w_kI/AAAAAAAABt4/YtYaXBcMv2c/s400/Dulce%2Bde%2B%2Bguayaba.jpg&amp;imgrefurl=http://cubajournal.blogspot.com/2008/10/guayaba-el-ms-cubano-entre-los-dulces.html&amp;usg=__-IwqoIetzXJ3IURF6QtLxLaWsMc=&amp;h=240&amp;w=320&amp;sz=23&amp;hl=es&amp;start=47&amp;tbnid=Iyr5iFICktMbcM:&amp;tbnh=89&amp;tbnw=118&amp;prev=/images%3Fq%3DGUAYABA%26gbv%3D2%26ndsp%3D18%26hl%3Des%26sa%3DN%26start%3D3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.cr/imgres?imgurl=http://www.elcolmadito.com/Arte/MasProductos/BohioPastadeGuayaba21onz_2.jpg&amp;imgrefurl=http://www.elcolmadito.com/USBohioDetail.asp%3FOrderNumber%3D953&amp;usg=__JLAHxTK7guWRoo7ofjROUvqzdWw=&amp;h=295&amp;w=300&amp;sz=22&amp;hl=es&amp;start=29&amp;tbnid=mlvbj7IbNgDEzM:&amp;tbnh=114&amp;tbnw=116&amp;prev=/images%3Fq%3DGUAYABA%26gbv%3D2%26ndsp%3D18%26hl%3Des%26sa%3DN%26start%3D18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GUAY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272120"/>
            <a:ext cx="2087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o originario de América Tropical y actualmente se encuentra muy difundido en todo el m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l fruto depende de la variedad, lo mismo que el color de la pulpa y la cáscara, los hay redondos como pelotas y ovalados en forma de p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durez se observa en la cáscara cuando alcanzan un color verde amarillento, o amarillo ros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1104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piedades de hidratadora, por su alto contenido en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contenido d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vitamina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muy superior a cítricos como la na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uda a la visión por su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vitamina A o beta-carote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se ve protegido y regulado por la participación e integración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tasi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u in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úa como un leve laxante por el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11048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meladas, pastas, bocadillos, confites, rellenos, jaleas, ju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1104840" cy="8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213000"/>
            <a:ext cx="124776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365720"/>
            <a:ext cx="112392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256536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508720" y="458136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4:33Z</dcterms:created>
  <dc:creator>Carolina Amerling</dc:creator>
  <dc:description/>
  <dc:language>en-US</dc:language>
  <cp:lastModifiedBy>Carolina Amerling</cp:lastModifiedBy>
  <dcterms:modified xsi:type="dcterms:W3CDTF">2009-09-04T13:48:49Z</dcterms:modified>
  <cp:revision>6</cp:revision>
  <dc:subject/>
  <dc:title>Slide 1</dc:title>
</cp:coreProperties>
</file>