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E07A7-F88B-4EBC-94AA-D3D529831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D78A-1CE7-496F-9BA3-2E2E17390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4639C-C029-41DC-B492-27CAA5AC8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8F04A-EA10-4275-BE1E-E430452B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3ACF-399B-47D8-8797-DB3B263A0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AC245-C13C-4940-9CF8-481718E2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46819-41B8-4B5E-A656-5FBC86F01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4BA34-6692-48F7-AB9C-50FBDB20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7C4D-1D90-4B99-BFE2-3820CD1C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4115-FD88-4E55-B1DF-9CF9696A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81B3-C389-48B6-A8D8-D5E89BB1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B036-31D6-41F8-A1DC-49899F152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BC91-2389-4502-83C1-E9D9F5A8A9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cr/imgres?imgurl=http://pallasca2.inictel.net/archivos/galeria/apc/130/fresas.jpg&amp;imgrefurl=http://pallasca2.inictel.net/p-admpub/index.php%3Fctg_id%3D8%26sct_id%3D48&amp;usg=__PD-WorRIFL7-BaJLAq4B9BXvd1k=&amp;h=178&amp;w=243&amp;sz=16&amp;hl=es&amp;start=7&amp;tbnid=HVYN559q9jV47M:&amp;tbnh=81&amp;tbnw=110&amp;prev=/images%3Fq%3Dfresas%26gbv%3D2%26hl%3Des%26sa%3D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cr/imgres?imgurl=http://www.petitplaisir.com/blog/wp-content/2009/03/fresa.jpg&amp;imgrefurl=http://www.petitplaisir.com/blog/2009/03/&amp;usg=__smDn4Z6pgZVucVsyzESnynjI-fk=&amp;h=280&amp;w=474&amp;sz=83&amp;hl=es&amp;start=12&amp;um=1&amp;tbnid=aMaY8LOsJadnPM:&amp;tbnh=76&amp;tbnw=129&amp;prev=/images%3Fq%3Dimagen%2Bde%2Bfresa%26hl%3Des%26rlz%3D1T4ADBS_esCR250CR251%26sa%3DN%26um%3D1" TargetMode="External"/><Relationship Id="rId2" Type="http://schemas.openxmlformats.org/officeDocument/2006/relationships/image" Target="../media/image3.jpeg"/><Relationship Id="rId3" Type="http://schemas.openxmlformats.org/officeDocument/2006/relationships/hyperlink" Target="http://images.google.co.cr/imgres?imgurl=http://www.nestleprofessional.com/mexico/es/Recipes/RecipesImages/NL_6891_39454.7694675926.jpg&amp;imgrefurl=http://www.nestleprofessional.com/mexico/es/Recipes/Pages/Bavaresa-de-fresa.aspx&amp;usg=__sblNp6q9KJcGrHPyDKR8VHd9vFc=&amp;h=500&amp;w=500&amp;sz=128&amp;hl=es&amp;start=25&amp;um=1&amp;tbnid=ZBi8LtbdukG1qM:&amp;tbnh=130&amp;tbnw=130&amp;prev=/images%3Fq%3Dimagen%2Bde%2Bfresa%26ndsp%3D18%26hl%3Des%26rlz%3D1T4ADBS_esCR250CR251%26sa%3DN%26start%3D18%26um%3D1" TargetMode="External"/><Relationship Id="rId4" Type="http://schemas.openxmlformats.org/officeDocument/2006/relationships/image" Target="../media/image4.jpeg"/><Relationship Id="rId5" Type="http://schemas.openxmlformats.org/officeDocument/2006/relationships/hyperlink" Target="http://images.google.co.cr/imgres?imgurl=http://weblogs.mundo-r.com/weblog/resources/quedepostres/Postres_para_diab&#233;ticos_/sorbete-de-fresa-sin-azucar.jpg&amp;imgrefurl=http://quedepostres.blogs-r.com/weblog/ver-post/sorbete_de_fresa_sin_azucar&amp;usg=__eJ-d_tPcZBpk0cZNCBlSwqp5uC0=&amp;h=300&amp;w=400&amp;sz=45&amp;hl=es&amp;start=33&amp;um=1&amp;tbnid=KOYVUEL38oCMwM:&amp;tbnh=93&amp;tbnw=124&amp;prev=/images%3Fq%3Dimagen%2Bde%2Bfresa%26ndsp%3D18%26hl%3Des%26rlz%3D1T4ADBS_esCR250CR251%26sa%3DN%26start%3D18%26um%3D1" TargetMode="External"/><Relationship Id="rId6" Type="http://schemas.openxmlformats.org/officeDocument/2006/relationships/image" Target="../media/image5.jpeg"/><Relationship Id="rId7" Type="http://schemas.openxmlformats.org/officeDocument/2006/relationships/hyperlink" Target="http://images.google.co.cr/imgres?imgurl=http://eldelantalverde.files.wordpress.com/2009/07/helado-de-fresa-y-coco.jpg&amp;imgrefurl=http://eldelantalverde.wordpress.com/2009/07/13/helado-de-fresas-y-leche-de-coco/&amp;usg=__xp54u9vkWh2U0etWuVa-Kf2rj3w=&amp;h=490&amp;w=368&amp;sz=119&amp;hl=es&amp;start=43&amp;um=1&amp;tbnid=xejlw0XopGTApM:&amp;tbnh=130&amp;tbnw=98&amp;prev=/images%3Fq%3Dimagen%2Bde%2Bfresa%26ndsp%3D18%26hl%3Des%26rlz%3D1T4ADBS_esCR250CR251%26sa%3DN%26start%3D36%26um%3D1" TargetMode="External"/><Relationship Id="rId8" Type="http://schemas.openxmlformats.org/officeDocument/2006/relationships/image" Target="../media/image6.jpeg"/><Relationship Id="rId9" Type="http://schemas.openxmlformats.org/officeDocument/2006/relationships/hyperlink" Target="http://images.google.co.cr/imgres?imgurl=http://inlinethumb33.webshots.com/43360/2629776840042373122S425x425Q85.jpg&amp;imgrefurl=http://albahacaycanela.blogspot.com/2008/04/mermelada-de-fresa.html&amp;usg=__nYj--ZGOcyQHmf8Yl-rY7vGJw2o=&amp;h=333&amp;w=425&amp;sz=33&amp;hl=es&amp;start=5&amp;um=1&amp;tbnid=Ue23nyAxJOPjoM:&amp;tbnh=99&amp;tbnw=126&amp;prev=/images%3Fq%3Dimagen%2Bde%2Bfmermelada%2Bde%2Bfresa%26hl%3Des%26rlz%3D1T4ADBS_esCR250CR251%26sa%3DG%26um%3D1" TargetMode="External"/><Relationship Id="rId10" Type="http://schemas.openxmlformats.org/officeDocument/2006/relationships/image" Target="../media/image7.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FRESA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3348000" y="3933720"/>
            <a:ext cx="187164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anta es pequeña, de no más de 50 cm de altura, con numerosas hojas trilobulada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uta de la fresa es en realidad un falso fruto, producto de engrosamiento del receptáculo floral; sobre ese falso fruto se encuentran gran cantidad de semillas pequeñas, que son frutos verdaderos llamados aquenio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raíces de la fresa son fibrosas y poco profundas. </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611280" y="333360"/>
            <a:ext cx="95256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Costa Rica, aún cuando se le puede ver creciendo desde 600 m ó menos, la zona apta para producción de fruta se ubica entre los 1.300 y 2.000 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esa se puede sembrar en cualquier mes del año. Sin embargo, las pruebas realizadas indican que lo más conveniente, para todas las zonas de producción, es sembrar en los primeros meses de la época lluviosa: mayo, junio y julio.</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61128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BENEFICIOS NUTRICIONALES</a:t>
            </a:r>
            <a:endParaRPr b="0" lang="en-US" sz="40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 alto en vitamina C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iene antocianinas y la vitamina E presentes en las fresas y fresones. Los antioxidantes bloquean el efecto dañino de los denominados "radicales lib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bundante el contenido en ácido fólico o folatos, sustancia imprescindible en los procesos de división y multiplicación celular.  </a:t>
            </a:r>
            <a:endParaRPr b="0" lang="en-US" sz="3200" spc="-1" strike="noStrike">
              <a:solidFill>
                <a:srgbClr val="ffffff"/>
              </a:solidFill>
              <a:latin typeface="Arial"/>
            </a:endParaRPr>
          </a:p>
        </p:txBody>
      </p:sp>
      <p:pic>
        <p:nvPicPr>
          <p:cNvPr id="52" name="" descr="">
            <a:hlinkClick r:id="rId1"/>
          </p:cNvPr>
          <p:cNvPicPr/>
          <p:nvPr/>
        </p:nvPicPr>
        <p:blipFill>
          <a:blip r:embed="rId2"/>
          <a:stretch/>
        </p:blipFill>
        <p:spPr>
          <a:xfrm>
            <a:off x="7451640" y="522936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USOS </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ermeladas, jaleas, postres, helados, yogurt, jugos, pasteles, bocadillos.</a:t>
            </a:r>
            <a:endParaRPr b="0" lang="en-US" sz="3200" spc="-1" strike="noStrike">
              <a:solidFill>
                <a:srgbClr val="ffffff"/>
              </a:solidFill>
              <a:latin typeface="Arial"/>
            </a:endParaRPr>
          </a:p>
        </p:txBody>
      </p:sp>
      <p:pic>
        <p:nvPicPr>
          <p:cNvPr id="55" name="" descr="">
            <a:hlinkClick r:id="rId1"/>
          </p:cNvPr>
          <p:cNvPicPr/>
          <p:nvPr/>
        </p:nvPicPr>
        <p:blipFill>
          <a:blip r:embed="rId2"/>
          <a:stretch/>
        </p:blipFill>
        <p:spPr>
          <a:xfrm>
            <a:off x="6659640" y="3429000"/>
            <a:ext cx="1228680" cy="723960"/>
          </a:xfrm>
          <a:prstGeom prst="rect">
            <a:avLst/>
          </a:prstGeom>
          <a:ln w="0">
            <a:noFill/>
          </a:ln>
        </p:spPr>
      </p:pic>
      <p:pic>
        <p:nvPicPr>
          <p:cNvPr id="56" name="" descr="">
            <a:hlinkClick r:id="rId3"/>
          </p:cNvPr>
          <p:cNvPicPr/>
          <p:nvPr/>
        </p:nvPicPr>
        <p:blipFill>
          <a:blip r:embed="rId4"/>
          <a:stretch/>
        </p:blipFill>
        <p:spPr>
          <a:xfrm>
            <a:off x="1258920" y="3068640"/>
            <a:ext cx="1238040" cy="1238400"/>
          </a:xfrm>
          <a:prstGeom prst="rect">
            <a:avLst/>
          </a:prstGeom>
          <a:ln w="0">
            <a:noFill/>
          </a:ln>
        </p:spPr>
      </p:pic>
      <p:pic>
        <p:nvPicPr>
          <p:cNvPr id="57" name="" descr="">
            <a:hlinkClick r:id="rId5"/>
          </p:cNvPr>
          <p:cNvPicPr/>
          <p:nvPr/>
        </p:nvPicPr>
        <p:blipFill>
          <a:blip r:embed="rId6"/>
          <a:stretch/>
        </p:blipFill>
        <p:spPr>
          <a:xfrm>
            <a:off x="5364000" y="4797360"/>
            <a:ext cx="1181160" cy="885960"/>
          </a:xfrm>
          <a:prstGeom prst="rect">
            <a:avLst/>
          </a:prstGeom>
          <a:ln w="0">
            <a:noFill/>
          </a:ln>
        </p:spPr>
      </p:pic>
      <p:pic>
        <p:nvPicPr>
          <p:cNvPr id="58" name="" descr="">
            <a:hlinkClick r:id="rId7"/>
          </p:cNvPr>
          <p:cNvPicPr/>
          <p:nvPr/>
        </p:nvPicPr>
        <p:blipFill>
          <a:blip r:embed="rId8"/>
          <a:stretch/>
        </p:blipFill>
        <p:spPr>
          <a:xfrm>
            <a:off x="4105440" y="2809800"/>
            <a:ext cx="933120" cy="1238400"/>
          </a:xfrm>
          <a:prstGeom prst="rect">
            <a:avLst/>
          </a:prstGeom>
          <a:ln w="0">
            <a:noFill/>
          </a:ln>
        </p:spPr>
      </p:pic>
      <p:pic>
        <p:nvPicPr>
          <p:cNvPr id="59" name="" descr="">
            <a:hlinkClick r:id="rId9"/>
          </p:cNvPr>
          <p:cNvPicPr/>
          <p:nvPr/>
        </p:nvPicPr>
        <p:blipFill>
          <a:blip r:embed="rId10"/>
          <a:stretch/>
        </p:blipFill>
        <p:spPr>
          <a:xfrm>
            <a:off x="2916360" y="4653000"/>
            <a:ext cx="1199880" cy="942840"/>
          </a:xfrm>
          <a:prstGeom prst="rect">
            <a:avLst/>
          </a:prstGeom>
          <a:ln w="0">
            <a:noFill/>
          </a:ln>
        </p:spPr>
      </p:pic>
      <p:pic>
        <p:nvPicPr>
          <p:cNvPr id="60" name="" descr=""/>
          <p:cNvPicPr/>
          <p:nvPr/>
        </p:nvPicPr>
        <p:blipFill>
          <a:blip r:embed="rId11"/>
          <a:stretch/>
        </p:blipFill>
        <p:spPr>
          <a:xfrm>
            <a:off x="75564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3:24:19Z</dcterms:created>
  <dc:creator>Walter Villalobos</dc:creator>
  <dc:description/>
  <dc:language>en-US</dc:language>
  <cp:lastModifiedBy>Carolina Amerling</cp:lastModifiedBy>
  <dcterms:modified xsi:type="dcterms:W3CDTF">2009-09-04T14:03:45Z</dcterms:modified>
  <cp:revision>9</cp:revision>
  <dc:subject/>
  <dc:title>Slide 1</dc:title>
</cp:coreProperties>
</file>