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B5BFB-37CA-4249-965B-D1FCA7088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50AF5-5984-433C-83A9-BD57A7EC9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A903C-F22F-4299-941D-BFAF65E27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02828-D92B-4577-B8C9-BA38DF9BA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A4F38-82CB-4FF5-A3E2-580C9620D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1A307-DB10-4FB0-97F0-AD14A4C28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C2F91-7B23-4D21-B165-13B6F43A5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9D409-0032-4D2C-AD15-C26354AAD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43EDD-90A0-498E-BDAE-D7439C776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0C2AE-AFD9-4FB7-AC5A-663EAB0C5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8DB6E-155A-4C50-8759-D21A60B01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3BB93-0EB6-48F7-9432-05E6FA17D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E86D-E8AD-472C-8D35-7B764C6F032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cr/imgres?imgurl=http://pallasca2.inictel.net/archivos/galeria/apc/130/fresas.jpg&amp;imgrefurl=http://pallasca2.inictel.net/p-admpub/index.php%3Fctg_id%3D8%26sct_id%3D48&amp;usg=__PD-WorRIFL7-BaJLAq4B9BXvd1k=&amp;h=178&amp;w=243&amp;sz=16&amp;hl=es&amp;start=7&amp;tbnid=HVYN559q9jV47M:&amp;tbnh=81&amp;tbnw=110&amp;prev=/images%3Fq%3Dfresas%26gbv%3D2%26hl%3Des%26sa%3D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cr/imgres?imgurl=http://www.educima.com/fresa-t10326.jpg&amp;imgrefurl=http://www.educima.com/es-colorear-dibujos-imagenes-foto-fresa-i10326.html&amp;usg=__WArnB4yWhyszzzwzdRSpGhoV-zw=&amp;h=750&amp;w=531&amp;sz=30&amp;hl=es&amp;start=2&amp;um=1&amp;tbnid=wQUUFg1mBsbfsM:&amp;tbnh=141&amp;tbnw=100&amp;prev=/images%3Fq%3Dimagen%2Bde%2Bfresa%26hl%3Des%26rlz%3D1T4ADBS_esCR250CR251%26sa%3DN%26um%3D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cr/imgres?imgurl=http://www.educima.com/fresa-t10326.jpg&amp;imgrefurl=http://www.educima.com/es-colorear-dibujos-imagenes-foto-fresa-i10326.html&amp;usg=__WArnB4yWhyszzzwzdRSpGhoV-zw=&amp;h=750&amp;w=531&amp;sz=30&amp;hl=es&amp;start=2&amp;um=1&amp;tbnid=wQUUFg1mBsbfsM:&amp;tbnh=141&amp;tbnw=100&amp;prev=/images%3Fq%3Dimagen%2Bde%2Bfresa%26hl%3Des%26rlz%3D1T4ADBS_esCR250CR251%26sa%3DN%26um%3D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cr/imgres?imgurl=http://www.educima.com/fresa-t10326.jpg&amp;imgrefurl=http://www.educima.com/es-colorear-dibujos-imagenes-foto-fresa-i10326.html&amp;usg=__WArnB4yWhyszzzwzdRSpGhoV-zw=&amp;h=750&amp;w=531&amp;sz=30&amp;hl=es&amp;start=2&amp;um=1&amp;tbnid=wQUUFg1mBsbfsM:&amp;tbnh=141&amp;tbnw=100&amp;prev=/images%3Fq%3Dimagen%2Bde%2Bfresa%26hl%3Des%26rlz%3D1T4ADBS_esCR250CR251%26sa%3DN%26um%3D1"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mages.google.co.cr/imgres?imgurl=http://www.petitplaisir.com/blog/wp-content/2009/03/fresa.jpg&amp;imgrefurl=http://www.petitplaisir.com/blog/2009/03/&amp;usg=__smDn4Z6pgZVucVsyzESnynjI-fk=&amp;h=280&amp;w=474&amp;sz=83&amp;hl=es&amp;start=12&amp;um=1&amp;tbnid=aMaY8LOsJadnPM:&amp;tbnh=76&amp;tbnw=129&amp;prev=/images%3Fq%3Dimagen%2Bde%2Bfresa%26hl%3Des%26rlz%3D1T4ADBS_esCR250CR251%26sa%3DN%26um%3D1" TargetMode="External"/><Relationship Id="rId2" Type="http://schemas.openxmlformats.org/officeDocument/2006/relationships/image" Target="../media/image3.jpeg"/><Relationship Id="rId3" Type="http://schemas.openxmlformats.org/officeDocument/2006/relationships/hyperlink" Target="http://images.google.co.cr/imgres?imgurl=http://www.nestleprofessional.com/mexico/es/Recipes/RecipesImages/NL_6891_39454.7694675926.jpg&amp;imgrefurl=http://www.nestleprofessional.com/mexico/es/Recipes/Pages/Bavaresa-de-fresa.aspx&amp;usg=__sblNp6q9KJcGrHPyDKR8VHd9vFc=&amp;h=500&amp;w=500&amp;sz=128&amp;hl=es&amp;start=25&amp;um=1&amp;tbnid=ZBi8LtbdukG1qM:&amp;tbnh=130&amp;tbnw=130&amp;prev=/images%3Fq%3Dimagen%2Bde%2Bfresa%26ndsp%3D18%26hl%3Des%26rlz%3D1T4ADBS_esCR250CR251%26sa%3DN%26start%3D18%26um%3D1" TargetMode="External"/><Relationship Id="rId4" Type="http://schemas.openxmlformats.org/officeDocument/2006/relationships/image" Target="../media/image4.jpeg"/><Relationship Id="rId5" Type="http://schemas.openxmlformats.org/officeDocument/2006/relationships/hyperlink" Target="http://images.google.co.cr/imgres?imgurl=http://weblogs.mundo-r.com/weblog/resources/quedepostres/Postres_para_diab&#233;ticos_/sorbete-de-fresa-sin-azucar.jpg&amp;imgrefurl=http://quedepostres.blogs-r.com/weblog/ver-post/sorbete_de_fresa_sin_azucar&amp;usg=__eJ-d_tPcZBpk0cZNCBlSwqp5uC0=&amp;h=300&amp;w=400&amp;sz=45&amp;hl=es&amp;start=33&amp;um=1&amp;tbnid=KOYVUEL38oCMwM:&amp;tbnh=93&amp;tbnw=124&amp;prev=/images%3Fq%3Dimagen%2Bde%2Bfresa%26ndsp%3D18%26hl%3Des%26rlz%3D1T4ADBS_esCR250CR251%26sa%3DN%26start%3D18%26um%3D1" TargetMode="External"/><Relationship Id="rId6" Type="http://schemas.openxmlformats.org/officeDocument/2006/relationships/image" Target="../media/image5.jpeg"/><Relationship Id="rId7" Type="http://schemas.openxmlformats.org/officeDocument/2006/relationships/hyperlink" Target="http://images.google.co.cr/imgres?imgurl=http://eldelantalverde.files.wordpress.com/2009/07/helado-de-fresa-y-coco.jpg&amp;imgrefurl=http://eldelantalverde.wordpress.com/2009/07/13/helado-de-fresas-y-leche-de-coco/&amp;usg=__xp54u9vkWh2U0etWuVa-Kf2rj3w=&amp;h=490&amp;w=368&amp;sz=119&amp;hl=es&amp;start=43&amp;um=1&amp;tbnid=xejlw0XopGTApM:&amp;tbnh=130&amp;tbnw=98&amp;prev=/images%3Fq%3Dimagen%2Bde%2Bfresa%26ndsp%3D18%26hl%3Des%26rlz%3D1T4ADBS_esCR250CR251%26sa%3DN%26start%3D36%26um%3D1" TargetMode="External"/><Relationship Id="rId8" Type="http://schemas.openxmlformats.org/officeDocument/2006/relationships/image" Target="../media/image6.jpeg"/><Relationship Id="rId9" Type="http://schemas.openxmlformats.org/officeDocument/2006/relationships/hyperlink" Target="http://images.google.co.cr/imgres?imgurl=http://inlinethumb33.webshots.com/43360/2629776840042373122S425x425Q85.jpg&amp;imgrefurl=http://albahacaycanela.blogspot.com/2008/04/mermelada-de-fresa.html&amp;usg=__nYj--ZGOcyQHmf8Yl-rY7vGJw2o=&amp;h=333&amp;w=425&amp;sz=33&amp;hl=es&amp;start=5&amp;um=1&amp;tbnid=Ue23nyAxJOPjoM:&amp;tbnh=99&amp;tbnw=126&amp;prev=/images%3Fq%3Dimagen%2Bde%2Bfmermelada%2Bde%2Bfresa%26hl%3Des%26rlz%3D1T4ADBS_esCR250CR251%26sa%3DG%26um%3D1" TargetMode="External"/><Relationship Id="rId10" Type="http://schemas.openxmlformats.org/officeDocument/2006/relationships/image" Target="../media/image7.jpeg"/><Relationship Id="rId11" Type="http://schemas.openxmlformats.org/officeDocument/2006/relationships/image" Target="../media/image2.jpe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FRESAS</a:t>
            </a:r>
            <a:endParaRPr b="0" lang="en-US" sz="4400" spc="-1" strike="noStrike">
              <a:solidFill>
                <a:srgbClr val="ff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 name="" descr="">
            <a:hlinkClick r:id="rId1"/>
          </p:cNvPr>
          <p:cNvPicPr/>
          <p:nvPr/>
        </p:nvPicPr>
        <p:blipFill>
          <a:blip r:embed="rId2"/>
          <a:stretch/>
        </p:blipFill>
        <p:spPr>
          <a:xfrm>
            <a:off x="3348000" y="3933720"/>
            <a:ext cx="1871640" cy="13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GENERALIDADES</a:t>
            </a:r>
            <a:endParaRPr b="0" lang="en-US" sz="4400" spc="-1" strike="noStrike">
              <a:solidFill>
                <a:srgbClr val="ff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planta es pequeña, de no más de 50 cm de altura, con numerosas hojas trilobulada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fruta de la fresa es en realidad un falso fruto, producto de engrosamiento del receptáculo floral; sobre ese falso fruto se encuentran gran cantidad de semillas pequeñas, que son frutos verdaderos llamados aquenio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raíces de la fresa son fibrosas y poco profundas. </a:t>
            </a:r>
            <a:endParaRPr b="0" lang="en-US" sz="2800" spc="-1" strike="noStrike">
              <a:solidFill>
                <a:srgbClr val="ffffff"/>
              </a:solidFill>
              <a:latin typeface="Arial"/>
            </a:endParaRPr>
          </a:p>
        </p:txBody>
      </p:sp>
      <p:pic>
        <p:nvPicPr>
          <p:cNvPr id="46" name="" descr="">
            <a:hlinkClick r:id="rId1"/>
          </p:cNvPr>
          <p:cNvPicPr/>
          <p:nvPr/>
        </p:nvPicPr>
        <p:blipFill>
          <a:blip r:embed="rId2"/>
          <a:stretch/>
        </p:blipFill>
        <p:spPr>
          <a:xfrm>
            <a:off x="611280" y="333360"/>
            <a:ext cx="952560" cy="134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GENERALIDADES</a:t>
            </a:r>
            <a:endParaRPr b="0" lang="en-US" sz="4400" spc="-1" strike="noStrike">
              <a:solidFill>
                <a:srgbClr val="ff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 Costa Rica, aún cuando se le puede ver creciendo desde 600 m ó menos, la zona apta para producción de fruta se ubica entre los 1.300 y 2.000 m.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fresa se puede sembrar en cualquier mes del año. Sin embargo, las pruebas realizadas indican que lo más conveniente, para todas las zonas de producción, es sembrar en los primeros meses de la época lluviosa: mayo, junio y julio.</a:t>
            </a:r>
            <a:endParaRPr b="0" lang="en-US" sz="2800" spc="-1" strike="noStrike">
              <a:solidFill>
                <a:srgbClr val="ffffff"/>
              </a:solidFill>
              <a:latin typeface="Arial"/>
            </a:endParaRPr>
          </a:p>
        </p:txBody>
      </p:sp>
      <p:pic>
        <p:nvPicPr>
          <p:cNvPr id="49" name="" descr="">
            <a:hlinkClick r:id="rId1"/>
          </p:cNvPr>
          <p:cNvPicPr/>
          <p:nvPr/>
        </p:nvPicPr>
        <p:blipFill>
          <a:blip r:embed="rId2"/>
          <a:stretch/>
        </p:blipFill>
        <p:spPr>
          <a:xfrm>
            <a:off x="611280" y="189000"/>
            <a:ext cx="952560" cy="134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rPr>
              <a:t>BENEFICIOS NUTRICIONALES</a:t>
            </a:r>
            <a:endParaRPr b="0" lang="en-US" sz="4000" spc="-1" strike="noStrike">
              <a:solidFill>
                <a:srgbClr val="ff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enido alto en vitamina C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iene antocianinas y la vitamina E presentes en las fresas y fresones. Los antioxidantes bloquean el efecto dañino de los denominados "radicales libr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bundante el contenido en ácido fólico o folatos, sustancia imprescindible en los procesos de división y multiplicación celular.  </a:t>
            </a:r>
            <a:endParaRPr b="0" lang="en-US" sz="3200" spc="-1" strike="noStrike">
              <a:solidFill>
                <a:srgbClr val="ffffff"/>
              </a:solidFill>
              <a:latin typeface="Arial"/>
            </a:endParaRPr>
          </a:p>
        </p:txBody>
      </p:sp>
      <p:pic>
        <p:nvPicPr>
          <p:cNvPr id="52" name="" descr="">
            <a:hlinkClick r:id="rId1"/>
          </p:cNvPr>
          <p:cNvPicPr/>
          <p:nvPr/>
        </p:nvPicPr>
        <p:blipFill>
          <a:blip r:embed="rId2"/>
          <a:stretch/>
        </p:blipFill>
        <p:spPr>
          <a:xfrm>
            <a:off x="7451640" y="5229360"/>
            <a:ext cx="952560" cy="134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USOS </a:t>
            </a:r>
            <a:endParaRPr b="0" lang="en-US" sz="4400" spc="-1" strike="noStrike">
              <a:solidFill>
                <a:srgbClr val="ff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Mermeladas, jaleas, postres, helados, yogurt, jugos, pasteles, bocadillos.</a:t>
            </a:r>
            <a:endParaRPr b="0" lang="en-US" sz="3200" spc="-1" strike="noStrike">
              <a:solidFill>
                <a:srgbClr val="ffffff"/>
              </a:solidFill>
              <a:latin typeface="Arial"/>
            </a:endParaRPr>
          </a:p>
        </p:txBody>
      </p:sp>
      <p:pic>
        <p:nvPicPr>
          <p:cNvPr id="55" name="" descr="">
            <a:hlinkClick r:id="rId1"/>
          </p:cNvPr>
          <p:cNvPicPr/>
          <p:nvPr/>
        </p:nvPicPr>
        <p:blipFill>
          <a:blip r:embed="rId2"/>
          <a:stretch/>
        </p:blipFill>
        <p:spPr>
          <a:xfrm>
            <a:off x="6659640" y="3429000"/>
            <a:ext cx="1228680" cy="723960"/>
          </a:xfrm>
          <a:prstGeom prst="rect">
            <a:avLst/>
          </a:prstGeom>
          <a:ln w="0">
            <a:noFill/>
          </a:ln>
        </p:spPr>
      </p:pic>
      <p:pic>
        <p:nvPicPr>
          <p:cNvPr id="56" name="" descr="">
            <a:hlinkClick r:id="rId3"/>
          </p:cNvPr>
          <p:cNvPicPr/>
          <p:nvPr/>
        </p:nvPicPr>
        <p:blipFill>
          <a:blip r:embed="rId4"/>
          <a:stretch/>
        </p:blipFill>
        <p:spPr>
          <a:xfrm>
            <a:off x="1258920" y="3068640"/>
            <a:ext cx="1238040" cy="1238400"/>
          </a:xfrm>
          <a:prstGeom prst="rect">
            <a:avLst/>
          </a:prstGeom>
          <a:ln w="0">
            <a:noFill/>
          </a:ln>
        </p:spPr>
      </p:pic>
      <p:pic>
        <p:nvPicPr>
          <p:cNvPr id="57" name="" descr="">
            <a:hlinkClick r:id="rId5"/>
          </p:cNvPr>
          <p:cNvPicPr/>
          <p:nvPr/>
        </p:nvPicPr>
        <p:blipFill>
          <a:blip r:embed="rId6"/>
          <a:stretch/>
        </p:blipFill>
        <p:spPr>
          <a:xfrm>
            <a:off x="5364000" y="4797360"/>
            <a:ext cx="1181160" cy="885960"/>
          </a:xfrm>
          <a:prstGeom prst="rect">
            <a:avLst/>
          </a:prstGeom>
          <a:ln w="0">
            <a:noFill/>
          </a:ln>
        </p:spPr>
      </p:pic>
      <p:pic>
        <p:nvPicPr>
          <p:cNvPr id="58" name="" descr="">
            <a:hlinkClick r:id="rId7"/>
          </p:cNvPr>
          <p:cNvPicPr/>
          <p:nvPr/>
        </p:nvPicPr>
        <p:blipFill>
          <a:blip r:embed="rId8"/>
          <a:stretch/>
        </p:blipFill>
        <p:spPr>
          <a:xfrm>
            <a:off x="4105440" y="2809800"/>
            <a:ext cx="933120" cy="1238400"/>
          </a:xfrm>
          <a:prstGeom prst="rect">
            <a:avLst/>
          </a:prstGeom>
          <a:ln w="0">
            <a:noFill/>
          </a:ln>
        </p:spPr>
      </p:pic>
      <p:pic>
        <p:nvPicPr>
          <p:cNvPr id="59" name="" descr="">
            <a:hlinkClick r:id="rId9"/>
          </p:cNvPr>
          <p:cNvPicPr/>
          <p:nvPr/>
        </p:nvPicPr>
        <p:blipFill>
          <a:blip r:embed="rId10"/>
          <a:stretch/>
        </p:blipFill>
        <p:spPr>
          <a:xfrm>
            <a:off x="2916360" y="4653000"/>
            <a:ext cx="1199880" cy="942840"/>
          </a:xfrm>
          <a:prstGeom prst="rect">
            <a:avLst/>
          </a:prstGeom>
          <a:ln w="0">
            <a:noFill/>
          </a:ln>
        </p:spPr>
      </p:pic>
      <p:pic>
        <p:nvPicPr>
          <p:cNvPr id="60" name="" descr=""/>
          <p:cNvPicPr/>
          <p:nvPr/>
        </p:nvPicPr>
        <p:blipFill>
          <a:blip r:embed="rId11"/>
          <a:stretch/>
        </p:blipFill>
        <p:spPr>
          <a:xfrm>
            <a:off x="755640" y="189000"/>
            <a:ext cx="952560" cy="134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3:24:19Z</dcterms:created>
  <dc:creator>Walter Villalobos</dc:creator>
  <dc:description/>
  <dc:language>en-US</dc:language>
  <cp:lastModifiedBy>Carolina Amerling</cp:lastModifiedBy>
  <dcterms:modified xsi:type="dcterms:W3CDTF">2009-09-04T14:03:45Z</dcterms:modified>
  <cp:revision>9</cp:revision>
  <dc:subject/>
  <dc:title>Slide 1</dc:title>
</cp:coreProperties>
</file>